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30B-8F3B-414A-81C5-BB5E0C57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E87-FBAD-4C63-9FCC-48C53294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6A8-984A-4D41-95EF-997C3DDF2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236-778C-4FE3-8FBC-56A8B323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BB58-489B-4DA8-BE85-62BD58E5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748A-75EA-4A5E-AA90-1474409C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337-3AC2-4E31-8B69-5958FA9E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C80-755E-4C51-B4FA-D7F8E4FB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3EA-0CFA-4D52-9B6B-DE6F46F1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458-DAF6-4EC5-AC3E-4FAD6B6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66A0-C1B6-410C-A6A2-FC29A4AC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806A-9971-4FE2-A7F2-19948B5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EE75-26C7-48DF-B29C-9943AD10F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math as a part of daily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, draw,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560" y="228600"/>
            <a:ext cx="8381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units by counting centimeter leng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break apart centimeter lengths into partner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line segments by reading numbers on a rul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2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abel geometric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d find perimeters of squares and rect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he perimeter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gles of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- Unit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and solve change plus and change minus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represent change plus and change minus story problems from equations and 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nd discuss  change plus and change minus story problem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5228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“change” and “collection”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llecti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lassify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tell with my own words and solve story problems that have  group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comparison language the correct 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comparison story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tell and solv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comparis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or make a ten to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688120" y="324468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when problems do not have enough or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not enough information by adding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x and solve problems that hav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hidden information by figuring out what that information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 with not enough information by adding information to the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extra information by crossing out the extra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problems with more than one solution st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totals using the doubles plus 1 or the doubles minus 1 strate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that even numbers are those that make two equal grou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28600" y="15228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3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challenging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, mystery addition and subtraction (teen total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the properties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find the perimeter of squares, rectangles, and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lassify triang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explain parallel 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raw and define parallelo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or subtraction problems involv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rules for adding or subtracting 0 or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lain how to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in different 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how numbers 6 – 10 as 5 and some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4 con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escribe the properties of quadrilaterals,  parallelograms, rectangles and squa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ategorize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how relationships among quadrilater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- Unit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numbers to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patterns among numbers in different place value pos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late groups of 10 to decade numbers and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ones, tens, and hundreds in different w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2 and 3 digit numbers through 2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totals of ones and t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present 2 and 3 digit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numbers up to 99 in word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a 1 digit number to a 2 digit numb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practice exchanging pennies for d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60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and compare 100-partners and10-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problems with tens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decade numbers over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1- and 2- digit numbers to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solve 10 based story problems with decade nu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set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numbers as odd or ev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51920" y="152280"/>
            <a:ext cx="8534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is sh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stimate how many of an object will fit in a given 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a method of solving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roup ones to make a new ten; group tens to make a new 1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a real-world sit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 using the Show All Totals metho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exercises using the New Groups Below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ifference between tens and ones in 2-digit add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use a preferred method to solve 2-digit addition exerci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tell the difference between ones, tens, and hundreds in two digit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2-digit numbers with totals greater than 1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and contrast different solution methods for 2-digit addi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, discuss, and correct common 2-digit addition err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15228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5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2-digit addi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he definition of peri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easure the perimeter of regular and irregular sha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present 2 and 3-digit money amounts using dollars, dimes and pen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addition concepts and strategies to real world situ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coins to amount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mbine pennies, nickels, and dimes to make different money amou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dd money amounts to purchase two items between $1.00 and $2.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kip count forward and backwar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relationships between numbers in sequenc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iscuss patterns in a horizontal hundred gr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ddition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5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find the partners of 2-digit numbers and partners of 100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and analyze repeating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extend object and number patter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describe the missing units in a patter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mathematical processes in the context of problem solving, connections, reasoning and proof, communication and represe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0492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alog and digital clo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.m. and p.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link times to daily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experience how long a minute 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fine an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5 minu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04920" y="228600"/>
            <a:ext cx="8610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gnize teen numbers as a ten and some o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understand word names for numbers to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dentify the break-aparts of numbers 2-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visualize various number group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bserve how the hour hand moves with the minute h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osition the hour hand to reflect the number of minutes after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tell time to 1 minu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time as after the hour and before the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ppropriate units to measure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termine elapsed t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228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6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understand calend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ordinal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describe and extend patterns in a function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- Unit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and interpret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plan a data collection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nalyze information in picture graphs to create and solve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 class proje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solve comparison problems show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, m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talk about information in picture graph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th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greater than &g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is less than &lt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parison symbo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28240" y="152280"/>
            <a:ext cx="84582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reate, represent and solve comparison story probl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represent information in story problems in a simple picture grap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use comparative terms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ore, few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s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esson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make tables for comparison situ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ask and answer comparison questions using information in a t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can collect data for a class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52280" y="15228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struct tables and convert them to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data collected for a class pro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data from a tally list to a summary 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a data table to a picture graph and ask questions based on th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bar graphs with picture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nvert picture graphs into bar grap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151920"/>
            <a:ext cx="85341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ad and analyze information in a bar gra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a bar graph to ask and answer comparison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nalyze information in bar graphs to answer qu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elect a way to categorize and display raw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bar graphs to display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nalyze information to create bar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mpare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bar graphs into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information from a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and solve problems with a given circle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reate questions and make comparison statements based on a given grap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nvert horizontal graphs to vertical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04920" y="228240"/>
            <a:ext cx="8610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ad and answer questions about information in tables, bar graphs and circle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find number partners in t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make predictions from simpl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discuss conclusions and make predictions from graph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nfer trends from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04560" y="152280"/>
            <a:ext cx="83818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7 c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concept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in the contest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identify break-aparts of numbers 2-1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ad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count on to solve mystery addition and subtraction probl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recognize that teen numbers are made up of a 10 and some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numbers that make a teen to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2280" y="151920"/>
            <a:ext cx="876312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dd two numbers that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record the Make a Ten strategy in written for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by adding two numbers to make a teen to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finger, written and mental strategies of making a ten to add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unt on to solve addition, mystery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make a ten to solve mystery addition and subtraction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ddition and subtraction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apply the same solution methods to mystery addition and subtra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add or subtract by counting on, using a number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understand what the equals sign = means and recognize the symbol for = “is not equal t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 cha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 vertical 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esson 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can write equations involving a total and two partn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419360" y="32767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–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reate and solve story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generate equations from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compare two numbers using the &lt; or &gt; symb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order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invent strategies for adding three numb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find and discuss teen Math Mountai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28600" y="1519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de 2  - Unit 1 co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son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solve a variety of problems using mathematical  processes and ski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can use the mathematical processes of problem solving, connections, reasoning and proof, communication and repres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4:32:41Z</dcterms:created>
  <dc:creator>MCPS</dc:creator>
  <dc:description/>
  <dc:language>en-US</dc:language>
  <cp:lastModifiedBy>MCPS</cp:lastModifiedBy>
  <dcterms:modified xsi:type="dcterms:W3CDTF">2011-01-27T17:23:48Z</dcterms:modified>
  <cp:revision>149</cp:revision>
  <dc:subject/>
  <dc:title>Slide 1</dc:title>
</cp:coreProperties>
</file>